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448-C2C6-4CE2-8D64-E4C01449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E92-2740-4B1A-94FB-22C1DF4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86A-AEB2-4BC6-9FC8-C958B95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461-3817-44FB-BF2E-F6E1F988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F04-4822-4AD4-803B-B21897F6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0C7-5353-4B1F-9B97-D930C92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8DB-1CC4-4EA4-B83D-C965EA48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B3B-4AA9-4CB9-88C7-A565BDA0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894D-BBA6-475A-BDB0-AE47A6A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F0E4-288A-4546-992B-16983F15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A646-695C-410E-9466-236657B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FF1-2E60-4130-8C5B-B74546C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355-6697-4EF8-8AF2-23B6DE5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D24-0792-45E9-8F41-280FC27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D831-E8D9-49E6-AE71-ADEAB2F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57B-7C0E-445A-BCF1-17701CC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ABB-F057-4079-BC8F-AFB603EB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F14-6FC8-4E21-83F0-D81B096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240-3E51-4D7E-8840-76F80F0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E40-2F7B-4ECD-A7A0-BB9DE5CA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BA9-3EA4-4F05-A928-EE880784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1D2-4DE6-4C22-B9B0-B5F45C2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2CC-45C1-4BF3-B79A-9F8A2E2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822-3A00-42D8-8F2C-8C0D4C4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414-798E-434D-A728-44AEC45D5B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9A3-5D4C-4867-BD2E-3556D72941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18.xm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Урок-смотр знаний по английскому языку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класс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95280" y="4292640"/>
            <a:ext cx="509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0076"/>
                </a:solidFill>
                <a:latin typeface="Comic Sans MS"/>
              </a:rPr>
              <a:t>Подготовила: Носкова Н.П.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0076"/>
                </a:solidFill>
                <a:latin typeface="Comic Sans MS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0076"/>
                </a:solidFill>
                <a:latin typeface="Comic Sans MS"/>
              </a:rPr>
              <a:t>английского язы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995640" y="579420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Шеркал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14986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0659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5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404640"/>
            <a:ext cx="151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979640" y="40464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427640" y="333360"/>
            <a:ext cx="194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autum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443640" y="333360"/>
            <a:ext cx="10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697800" cy="470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6697800" cy="465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"/>
          <p:cNvPicPr/>
          <p:nvPr/>
        </p:nvPicPr>
        <p:blipFill>
          <a:blip r:embed="rId3"/>
          <a:stretch/>
        </p:blipFill>
        <p:spPr>
          <a:xfrm>
            <a:off x="971640" y="1125360"/>
            <a:ext cx="7056360" cy="4658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4"/>
          <a:stretch/>
        </p:blipFill>
        <p:spPr>
          <a:xfrm>
            <a:off x="684360" y="907920"/>
            <a:ext cx="7343640" cy="4926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97" name="038._My_-_malen_kie_deti.www.kidmusic.tu2.ru.mp3" descr=""/>
          <p:cNvPicPr/>
          <p:nvPr/>
        </p:nvPicPr>
        <p:blipFill>
          <a:blip r:embed="rId5"/>
          <a:stretch/>
        </p:blipFill>
        <p:spPr>
          <a:xfrm>
            <a:off x="7164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2435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324000" y="104292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I am a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b) bird  a) elephant     c) frog    d) don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411280" y="436572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085840" y="2492280"/>
            <a:ext cx="70581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Big Secr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Smart Little</a:t>
            </a:r>
            <a:r>
              <a:rPr b="1" lang="ru-RU" sz="2400" spc="-1" strike="noStrike">
                <a:solidFill>
                  <a:srgbClr val="1f007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Donkey’s Favourite Sea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wo Ducks and the Fr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Baby Elephant and His New Clot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Sun and the Wi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King and the Chee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The Best Time For Ap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7740720" y="6093000"/>
            <a:ext cx="649080" cy="43164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72" h="21600">
                <a:moveTo>
                  <a:pt x="0" y="0"/>
                </a:moveTo>
                <a:lnTo>
                  <a:pt x="32472" y="0"/>
                </a:lnTo>
                <a:lnTo>
                  <a:pt x="32472" y="21600"/>
                </a:lnTo>
                <a:lnTo>
                  <a:pt x="0" y="21600"/>
                </a:lnTo>
                <a:close/>
              </a:path>
              <a:path fill="lightenLess" w="32472" h="21600">
                <a:moveTo>
                  <a:pt x="0" y="0"/>
                </a:moveTo>
                <a:lnTo>
                  <a:pt x="32472" y="0"/>
                </a:lnTo>
                <a:lnTo>
                  <a:pt x="31072" y="1400"/>
                </a:lnTo>
                <a:lnTo>
                  <a:pt x="1400" y="1400"/>
                </a:lnTo>
                <a:close/>
              </a:path>
              <a:path fill="darken" w="32472" h="21600">
                <a:moveTo>
                  <a:pt x="32472" y="0"/>
                </a:moveTo>
                <a:lnTo>
                  <a:pt x="32472" y="21600"/>
                </a:lnTo>
                <a:lnTo>
                  <a:pt x="31072" y="20200"/>
                </a:lnTo>
                <a:lnTo>
                  <a:pt x="31072" y="1400"/>
                </a:lnTo>
                <a:close/>
              </a:path>
              <a:path fill="darkenLess" w="32472" h="21600">
                <a:moveTo>
                  <a:pt x="32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72" y="20200"/>
                </a:lnTo>
                <a:close/>
              </a:path>
              <a:path fill="lighten" w="32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72" h="21600">
                <a:moveTo>
                  <a:pt x="9230" y="3794"/>
                </a:moveTo>
                <a:lnTo>
                  <a:pt x="23242" y="10800"/>
                </a:lnTo>
                <a:lnTo>
                  <a:pt x="92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985080" cy="48085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203" name="Text Box 5"/>
          <p:cNvSpPr/>
          <p:nvPr/>
        </p:nvSpPr>
        <p:spPr>
          <a:xfrm>
            <a:off x="1692360" y="5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wo Ducks and the Fro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3514680" cy="4467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448000" cy="244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06" name="Text Box 6"/>
          <p:cNvSpPr/>
          <p:nvPr/>
        </p:nvSpPr>
        <p:spPr>
          <a:xfrm>
            <a:off x="179280" y="4076640"/>
            <a:ext cx="446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казки и рассказы для дете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«То, чего не был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, «Сказание о гордом Аггее»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«Сигнал» и друг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332000" y="40464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0076"/>
                </a:solidFill>
                <a:latin typeface="Comic Sans MS"/>
              </a:rPr>
              <a:t>Гаршин Всеволод Михайлович</a:t>
            </a: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(1855-1888)</a:t>
            </a:r>
            <a:r>
              <a:rPr b="1" lang="ru-RU" sz="2400" spc="-1" strike="noStrike">
                <a:solidFill>
                  <a:srgbClr val="1f0076"/>
                </a:solidFill>
                <a:latin typeface="Comic Sans MS"/>
              </a:rPr>
              <a:t> русский пис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2411280" y="2924280"/>
            <a:ext cx="45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Guess the fairy tal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2514600" cy="208584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1692360" cy="237636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  <p:pic>
        <p:nvPicPr>
          <p:cNvPr id="211" name="Picture 7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229120" cy="281016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  <p:pic>
        <p:nvPicPr>
          <p:cNvPr id="212" name="Picture 8" descr=""/>
          <p:cNvPicPr/>
          <p:nvPr/>
        </p:nvPicPr>
        <p:blipFill>
          <a:blip r:embed="rId4"/>
          <a:stretch/>
        </p:blipFill>
        <p:spPr>
          <a:xfrm>
            <a:off x="4427640" y="4149720"/>
            <a:ext cx="3828960" cy="232416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  <p:pic>
        <p:nvPicPr>
          <p:cNvPr id="213" name="Picture 9" descr=""/>
          <p:cNvPicPr/>
          <p:nvPr/>
        </p:nvPicPr>
        <p:blipFill>
          <a:blip r:embed="rId5"/>
          <a:stretch/>
        </p:blipFill>
        <p:spPr>
          <a:xfrm>
            <a:off x="2124000" y="4149720"/>
            <a:ext cx="1800360" cy="221940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305240" cy="51850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215" name="Text Box 5"/>
          <p:cNvSpPr/>
          <p:nvPr/>
        </p:nvSpPr>
        <p:spPr>
          <a:xfrm>
            <a:off x="2195640" y="404640"/>
            <a:ext cx="51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ood job! Well don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584440" cy="3095640"/>
          </a:xfrm>
          <a:prstGeom prst="rect">
            <a:avLst/>
          </a:prstGeom>
          <a:ln w="57240">
            <a:solidFill>
              <a:srgbClr val="ffef66"/>
            </a:solidFill>
            <a:miter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048040" cy="3240000"/>
          </a:xfrm>
          <a:prstGeom prst="rect">
            <a:avLst/>
          </a:prstGeom>
          <a:ln w="57240">
            <a:solidFill>
              <a:srgbClr val="ffef66"/>
            </a:solidFill>
            <a:miter/>
          </a:ln>
        </p:spPr>
      </p:pic>
      <p:sp>
        <p:nvSpPr>
          <p:cNvPr id="218" name="Text Box 6"/>
          <p:cNvSpPr/>
          <p:nvPr/>
        </p:nvSpPr>
        <p:spPr>
          <a:xfrm>
            <a:off x="684360" y="476280"/>
            <a:ext cx="4535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олтер Элайас Дисней (1901-19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-252360" y="1341360"/>
            <a:ext cx="622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мериканский художник-мультипликатор, кинорежиссёр, сценарист, продюсер, актё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059280" y="2492280"/>
            <a:ext cx="2233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Основатель компании,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Walt Disney Production</a:t>
            </a: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, в настоящее время  -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“The Walt Disney Company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148360" y="3860640"/>
            <a:ext cx="43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здатель первого в истории звукового полнометражного мультфиль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059280" y="4869000"/>
            <a:ext cx="547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Снял 111 фильмов, продюсер 576 кинораб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987640" y="5516640"/>
            <a:ext cx="56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лучил 26 премий Оскар и другие награды и прем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7451640" y="630864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Чарльз Лютвидж Доджсон</a:t>
            </a:r>
            <a:br>
              <a:rPr sz="2800"/>
            </a:br>
            <a:r>
              <a:rPr b="1" i="1" lang="ru-RU" sz="2400" spc="-1" strike="noStrike">
                <a:solidFill>
                  <a:srgbClr val="cc0000"/>
                </a:solidFill>
                <a:latin typeface="Comic Sans MS"/>
              </a:rPr>
              <a:t>Charles Lutwidge Dodgson</a:t>
            </a: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 (1832-1898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627280" y="2421000"/>
            <a:ext cx="316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Писатель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математ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логик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философ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фотогра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7885080" y="630864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10800"/>
                </a:moveTo>
                <a:lnTo>
                  <a:pt x="35009" y="3794"/>
                </a:lnTo>
                <a:lnTo>
                  <a:pt x="3500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346480" cy="3166920"/>
          </a:xfrm>
          <a:prstGeom prst="rect">
            <a:avLst/>
          </a:prstGeom>
          <a:ln w="57240">
            <a:solidFill>
              <a:srgbClr val="1a036d"/>
            </a:solidFill>
            <a:miter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293920" cy="3249360"/>
          </a:xfrm>
          <a:prstGeom prst="rect">
            <a:avLst/>
          </a:prstGeom>
          <a:ln w="57240">
            <a:solidFill>
              <a:srgbClr val="1f00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539640" y="692280"/>
            <a:ext cx="7704360" cy="36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0076"/>
                </a:solidFill>
                <a:latin typeface="Comic Sans MS"/>
              </a:rPr>
              <a:t>I can re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0076"/>
                </a:solidFill>
                <a:latin typeface="Comic Sans MS"/>
              </a:rPr>
              <a:t>I can wri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0076"/>
                </a:solidFill>
                <a:latin typeface="Comic Sans MS"/>
              </a:rPr>
              <a:t>I can speak English, to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0076"/>
                </a:solidFill>
                <a:latin typeface="Comic Sans MS"/>
              </a:rPr>
              <a:t>I like English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0076"/>
                </a:solidFill>
                <a:latin typeface="Comic Sans MS"/>
              </a:rPr>
              <a:t>And what about you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39640" y="4365720"/>
            <a:ext cx="7704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oday at the lesson I will show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ow I ca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rit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Cloud"/>
          <p:cNvSpPr/>
          <p:nvPr/>
        </p:nvSpPr>
        <p:spPr>
          <a:xfrm>
            <a:off x="3059280" y="4869000"/>
            <a:ext cx="1152360" cy="723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Cloud"/>
          <p:cNvSpPr/>
          <p:nvPr/>
        </p:nvSpPr>
        <p:spPr>
          <a:xfrm>
            <a:off x="5724360" y="4797360"/>
            <a:ext cx="1152720" cy="771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Cloud"/>
          <p:cNvSpPr/>
          <p:nvPr/>
        </p:nvSpPr>
        <p:spPr>
          <a:xfrm>
            <a:off x="4211640" y="4797360"/>
            <a:ext cx="1079640" cy="723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.chaykovskiy_-_sentimentalniy_vals.mp3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2246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908000" y="260280"/>
            <a:ext cx="54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0076"/>
                </a:solidFill>
                <a:latin typeface="Comic Sans MS"/>
              </a:rPr>
              <a:t>The King and the Che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676600" cy="4324320"/>
          </a:xfrm>
          <a:prstGeom prst="rect">
            <a:avLst/>
          </a:prstGeom>
          <a:ln w="57240">
            <a:solidFill>
              <a:srgbClr val="ffef66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2952720" cy="2806560"/>
          </a:xfrm>
          <a:prstGeom prst="rect">
            <a:avLst/>
          </a:prstGeom>
          <a:ln w="57240">
            <a:solidFill>
              <a:srgbClr val="ffef66"/>
            </a:solidFill>
            <a:miter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2951280" cy="2495520"/>
          </a:xfrm>
          <a:prstGeom prst="rect">
            <a:avLst/>
          </a:prstGeom>
          <a:ln w="57240">
            <a:solidFill>
              <a:srgbClr val="ffe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247840" cy="2838600"/>
          </a:xfrm>
          <a:prstGeom prst="rect">
            <a:avLst/>
          </a:prstGeom>
          <a:ln w="76320">
            <a:solidFill>
              <a:srgbClr val="ffb800"/>
            </a:solidFill>
            <a:miter/>
          </a:ln>
        </p:spPr>
      </p:pic>
      <p:sp>
        <p:nvSpPr>
          <p:cNvPr id="165" name="Text Box 6"/>
          <p:cNvSpPr/>
          <p:nvPr/>
        </p:nvSpPr>
        <p:spPr>
          <a:xfrm>
            <a:off x="2050920" y="1916280"/>
            <a:ext cx="4032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Nancy (1915-197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Eric (1910-199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0076"/>
                </a:solidFill>
                <a:latin typeface="Comic Sans MS"/>
              </a:rPr>
              <a:t>Gurn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3348000" y="4094280"/>
            <a:ext cx="1879560" cy="2763720"/>
          </a:xfrm>
          <a:prstGeom prst="rect">
            <a:avLst/>
          </a:prstGeom>
          <a:ln w="9360">
            <a:solidFill>
              <a:srgbClr val="ffb800"/>
            </a:solidFill>
            <a:miter/>
          </a:ln>
        </p:spPr>
      </p:pic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110484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4"/>
          <a:stretch/>
        </p:blipFill>
        <p:spPr>
          <a:xfrm>
            <a:off x="2700360" y="189000"/>
            <a:ext cx="1047600" cy="145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5"/>
          <a:stretch/>
        </p:blipFill>
        <p:spPr>
          <a:xfrm>
            <a:off x="3924360" y="189000"/>
            <a:ext cx="933480" cy="143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6"/>
          <a:stretch/>
        </p:blipFill>
        <p:spPr>
          <a:xfrm>
            <a:off x="5076720" y="189000"/>
            <a:ext cx="105912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100512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796000" y="2060640"/>
            <a:ext cx="2527200" cy="2808360"/>
          </a:xfrm>
          <a:prstGeom prst="rect">
            <a:avLst/>
          </a:prstGeom>
          <a:ln w="7632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631280" cy="5095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1547640" y="33336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usy Housew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038._My_-_malen_kie_deti.www.kidmusic.tu2.ru.mp3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2435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87280" y="981000"/>
            <a:ext cx="67694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Humpty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Dumpty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sat on the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w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Humpty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Dumpty had a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great fall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ll the king’s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hors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nd all the king’s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Couldn’t put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Humpty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together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again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048120" cy="4029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3887640" cy="2495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79" name="Text Box 6"/>
          <p:cNvSpPr/>
          <p:nvPr/>
        </p:nvSpPr>
        <p:spPr>
          <a:xfrm>
            <a:off x="3924360" y="907920"/>
            <a:ext cx="42480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Шалта́й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Болта́й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(</a:t>
            </a:r>
            <a:r>
              <a:rPr b="1" i="1" lang="ru-RU" sz="2400" spc="-1" strike="noStrike">
                <a:solidFill>
                  <a:srgbClr val="1a036d"/>
                </a:solidFill>
                <a:latin typeface="Comic Sans MS"/>
              </a:rPr>
              <a:t>англ.</a:t>
            </a: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1a036d"/>
                </a:solidFill>
                <a:latin typeface="Comic Sans MS"/>
              </a:rPr>
              <a:t>Humpty Dumpty</a:t>
            </a: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) —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персонаж многи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036d"/>
                </a:solidFill>
                <a:latin typeface="Comic Sans MS"/>
              </a:rPr>
              <a:t>классических  английских детских стихотвор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930400" cy="4105440"/>
          </a:xfrm>
          <a:prstGeom prst="rect">
            <a:avLst/>
          </a:prstGeom>
          <a:ln w="76320">
            <a:solidFill>
              <a:srgbClr val="1f0076"/>
            </a:solidFill>
            <a:miter/>
          </a:ln>
        </p:spPr>
      </p:pic>
      <p:sp>
        <p:nvSpPr>
          <p:cNvPr id="181" name="Text Box 5"/>
          <p:cNvSpPr/>
          <p:nvPr/>
        </p:nvSpPr>
        <p:spPr>
          <a:xfrm>
            <a:off x="4716360" y="8985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067280" y="907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знаете ли вы, что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773360"/>
            <a:ext cx="2232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тишо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 Шалтай-Болтай » был посвящен королю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ичарду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III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, который действительно упал со стены во время битвы 1485 год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148360" y="1773360"/>
            <a:ext cx="33494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 современном английском языке слово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« шалтай-болтай »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имеет два значения: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«толстячок-коротышка»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«вещь, упавшая или разбитая и невосстанавли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ваемая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761080" cy="51940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6" name="Text Box 5"/>
          <p:cNvSpPr/>
          <p:nvPr/>
        </p:nvSpPr>
        <p:spPr>
          <a:xfrm>
            <a:off x="1763640" y="333360"/>
            <a:ext cx="61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Алиса в стране чудес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Льюис Кэррол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8:06:46Z</dcterms:created>
  <dc:creator>Loner-XP</dc:creator>
  <dc:description/>
  <dc:language>en-US</dc:language>
  <cp:lastModifiedBy>Вера</cp:lastModifiedBy>
  <dcterms:modified xsi:type="dcterms:W3CDTF">2011-09-27T03:21:58Z</dcterms:modified>
  <cp:revision>74</cp:revision>
  <dc:subject/>
  <dc:title>Урок-смотр знаний по английскому языку  в 5 классе</dc:title>
</cp:coreProperties>
</file>